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363-B245-4A10-8264-A8FF7F57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ED3-BC78-4F1E-BA85-6A780AE3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A4B-9EA2-46FE-8A5D-E6D1FD86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3DE-8780-4853-80B9-F66E1C19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E187-6AFB-450E-998B-C2AE5E69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909D-BF7C-4146-A270-9048F2F1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9DAF-DBFD-4AA8-8B00-482630C2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59C0-0C18-455D-B623-61884F09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8CF8-675E-4703-A654-E08793E5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10FB-DEC1-400E-A39F-20C5132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A57-E15D-4D81-85A2-5E8BF12D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269-FAB0-412B-A915-149A9CD1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8DEF-1411-4427-9383-69529A5D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8F9-7F27-4E89-B2E9-F6343079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348-3508-400C-82B1-9BA1977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148A-5ABD-40DA-B007-3D22AF61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97A4-CE2C-4FF5-9402-539952AE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93EB-7817-4EF9-9A3B-4F376FF4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CECE-963F-43D1-9EF2-438A5A9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7475-AF2F-4BA1-B9C3-DE05B64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C48B-BC5B-43F4-B73F-906462D1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8DD1-A9DE-4DDD-9E56-8932238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4F7-C23F-47FF-A6E3-0553A70D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49EF-B1CB-424A-919E-824B8DFA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BC37-B43E-4307-B551-FB09A6C0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40B6-AC75-497B-9CEE-6A7729D4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9CE5-826F-4522-A6AB-701B9CC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DD3F-78AC-48D1-9A5D-1E6337B6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E442-0078-4A48-95AF-C7305903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8401-76EA-4341-BAC1-E8504918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BBEA-BBEB-4896-AEF2-1717F966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B5AC-4411-48D1-BA68-02F6913E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B3ED-8834-4AB2-9429-B58F64C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73C-0367-4573-8B88-2B86B76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3023-F332-4F48-9BDE-3CC4303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F16D-B8AA-46F9-BDD5-0539793C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1AA2-94A4-4A41-9775-3A276BC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FC64-D303-40BC-A9BD-DC1E2FD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0DF2-499C-4DB7-9B64-F0782846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005A-C549-48C9-ACFA-AF3B052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315B-7086-4E6B-935D-E2E4423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9229-254E-4889-9C16-144D7500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D030-2CA7-4C79-B2BA-A29DED94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1D804-C100-4B0A-ADB7-33CC9A2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973-D39E-4EE3-A9DF-FAD0A574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DB7B7-8553-40D4-910B-5C017331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321E-184A-4AF5-AEAA-818FE158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50586-FF18-4B18-BE4C-69C88030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A137-F697-4775-AFB3-E63D2FA7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EF97-4DCD-4963-A763-35550D8C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ED8B-331F-4501-B510-032D011C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3FCD-0CAB-4F5D-B646-3E2BD76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FDB8-9777-4F20-866F-D4850423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3DE5-7D77-4D7F-AA5A-A141E70B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6E79C-2441-446D-8364-7BD95604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FE7-2655-4208-8208-89AFA17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B449-22F4-418E-B560-D477054B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6C6-63D3-4891-ABF5-C842B62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2D0-15D7-4CDF-97C8-FC7DE56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68A-BF96-4477-BE8C-46589AD8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BC71-0394-4730-B0FD-64DF088CC69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41F-3309-425F-8566-22E0CF3DE0A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210F-5C84-491A-A47B-9A1C2395E21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2646-E137-4833-B804-9B195D82B3D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A049-BC34-4BF2-B29A-83A9EE0B23D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spañol 2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apítulo 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38" name="Content Placeholder 2" descr=""/>
          <p:cNvPicPr/>
          <p:nvPr/>
        </p:nvPicPr>
        <p:blipFill>
          <a:blip r:embed="rId2"/>
          <a:stretch/>
        </p:blipFill>
        <p:spPr>
          <a:xfrm>
            <a:off x="414360" y="1554120"/>
            <a:ext cx="72914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ds.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sotr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a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é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Ir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y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y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ber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y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y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sta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é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e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ab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p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p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0492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ndatos – means comma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are used to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- get someone’s att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- to issue invit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- give dire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- give warn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5- give ORDERS! (not food!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ú (+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ú (-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d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osotro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negative forms of Ud., Uds., and nosotros don’t have a special formula. Just add “NO” in front of it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912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+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él/ella/ud form of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rb in the present ten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or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 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d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ro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ds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or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 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or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 MO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no stem-change!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Content Placeholder 2" descr=""/>
          <p:cNvPicPr/>
          <p:nvPr/>
        </p:nvPicPr>
        <p:blipFill>
          <a:blip r:embed="rId2"/>
          <a:stretch/>
        </p:blipFill>
        <p:spPr>
          <a:xfrm>
            <a:off x="450720" y="1530360"/>
            <a:ext cx="73342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JUGA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ú +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e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ega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ú -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comas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juegue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d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a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egue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ds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an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eguen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amos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guemo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conjugating REFLEXIVE VERBS, attach the pronoun to the end of the verb if it is a POSITIVE comma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ávate las manos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Wash your hands!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conjugating REFLEXIVE VERBS, the pronoun goes in front of the verb when it is a NEGATIVE comma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se lave las mano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Don’t (you) wash your hands!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EM CHANGES DO OCCUR!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n the nosotros form though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Dormir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uerme, no duermas!, duerma, duerm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nny spelling ending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r--- g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r--- q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zar--- 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se occur in ALL of the form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Buscar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sca, no busques, busque, busquen, busque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ink  TV DISH P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n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n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c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l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c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z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n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Notice how they are ALL 2-3 letters long. .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166 -0.00023 L -0.44167 -0.00023 E">
                                      <p:cBhvr>
                                        <p:cTn id="282" dur="2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9:23:12Z</dcterms:created>
  <dc:creator>Maple Lake</dc:creator>
  <dc:description/>
  <dc:language>en-US</dc:language>
  <cp:lastModifiedBy>Maple Lake</cp:lastModifiedBy>
  <dcterms:modified xsi:type="dcterms:W3CDTF">2008-11-06T13:40:23Z</dcterms:modified>
  <cp:revision>6</cp:revision>
  <dc:subject/>
  <dc:title>Los Mandatos!</dc:title>
</cp:coreProperties>
</file>